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97F-A53E-467F-A2F4-6E3CDDE92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5299-E470-4D5B-B0D7-77630055E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CD0-36F2-408E-A8DB-C3E6ACE72E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947-AAB3-4C09-97B4-0A456CCE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6EF-FEF8-42DB-BAD2-69193797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A71-CD7E-40F5-BA1B-B40F1188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CCD-4F5D-4B32-B122-722D33D8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E0A-7376-41EE-B488-5DCECE4F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6F9-B046-4CAC-B5D6-01ECFC5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4A3-9F20-4BBC-918C-AC66A8A6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EB6-F57A-4CD5-B743-5D374807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37E-DF45-40CE-BDD0-00ACF448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936-8599-4A7C-AF1F-B608ADB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3C4-6166-4BA5-8898-5B870F50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F71-6EE6-4547-B1F0-8D2AFB55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4755-D8CB-4009-948E-6C3170DF7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4E0B-3BE8-4172-89B2-558F02075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henomenon_Wallpaper_by_goerg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 rot="21019800">
            <a:off x="3002760" y="5597280"/>
            <a:ext cx="31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3d69b"/>
                </a:solidFill>
                <a:latin typeface="Calibri"/>
              </a:rPr>
              <a:t>Întărirea Guvernării de Mediu în Bucureș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00200" y="838080"/>
            <a:ext cx="5943600" cy="1008720"/>
          </a:xfrm>
          <a:prstGeom prst="rect">
            <a:avLst/>
          </a:prstGeom>
          <a:solidFill>
            <a:srgbClr val="ffffff">
              <a:alpha val="35000"/>
            </a:srgbClr>
          </a:solidFill>
          <a:ln w="28440">
            <a:solidFill>
              <a:srgbClr val="e46c0a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17375e"/>
                </a:solidFill>
                <a:latin typeface="Segoe Script"/>
              </a:rPr>
              <a:t>Educație pentru dezvoltare durabil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17375e"/>
                </a:solidFill>
                <a:latin typeface="Segoe Script"/>
              </a:rPr>
              <a:t>- </a:t>
            </a:r>
            <a:r>
              <a:rPr b="1" lang="en-US" sz="2000" spc="-1" strike="noStrike">
                <a:solidFill>
                  <a:srgbClr val="17375e"/>
                </a:solidFill>
                <a:latin typeface="Segoe Script"/>
              </a:rPr>
              <a:t>Ce po</a:t>
            </a:r>
            <a:r>
              <a:rPr b="1" lang="ro-RO" sz="2000" spc="-1" strike="noStrike">
                <a:solidFill>
                  <a:srgbClr val="17375e"/>
                </a:solidFill>
                <a:latin typeface="Segoe Script"/>
              </a:rPr>
              <a:t>ți face tu?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380880" y="685800"/>
            <a:ext cx="711360" cy="2197080"/>
            <a:chOff x="380880" y="685800"/>
            <a:chExt cx="711360" cy="2197080"/>
          </a:xfrm>
        </p:grpSpPr>
        <p:pic>
          <p:nvPicPr>
            <p:cNvPr id="52" name="Picture 7" descr="logo norway grants.jpg"/>
            <p:cNvPicPr/>
            <p:nvPr/>
          </p:nvPicPr>
          <p:blipFill>
            <a:blip r:embed="rId2"/>
            <a:stretch/>
          </p:blipFill>
          <p:spPr>
            <a:xfrm>
              <a:off x="380880" y="685800"/>
              <a:ext cx="71136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Freeform 12"/>
            <p:cNvSpPr/>
            <p:nvPr/>
          </p:nvSpPr>
          <p:spPr>
            <a:xfrm>
              <a:off x="645480" y="1430640"/>
              <a:ext cx="193680" cy="1452240"/>
            </a:xfrm>
            <a:custGeom>
              <a:avLst/>
              <a:gdLst/>
              <a:ahLst/>
              <a:rect l="l" t="t" r="r" b="b"/>
              <a:pathLst>
                <a:path w="193637" h="1452282">
                  <a:moveTo>
                    <a:pt x="53788" y="0"/>
                  </a:moveTo>
                  <a:cubicBezTo>
                    <a:pt x="50202" y="10758"/>
                    <a:pt x="48101" y="22131"/>
                    <a:pt x="43030" y="32273"/>
                  </a:cubicBezTo>
                  <a:cubicBezTo>
                    <a:pt x="37248" y="43837"/>
                    <a:pt x="26766" y="52731"/>
                    <a:pt x="21515" y="64546"/>
                  </a:cubicBezTo>
                  <a:cubicBezTo>
                    <a:pt x="12304" y="85270"/>
                    <a:pt x="0" y="129092"/>
                    <a:pt x="0" y="129092"/>
                  </a:cubicBezTo>
                  <a:cubicBezTo>
                    <a:pt x="3586" y="182880"/>
                    <a:pt x="4804" y="236879"/>
                    <a:pt x="10757" y="290457"/>
                  </a:cubicBezTo>
                  <a:cubicBezTo>
                    <a:pt x="12009" y="301727"/>
                    <a:pt x="14924" y="313502"/>
                    <a:pt x="21515" y="322729"/>
                  </a:cubicBezTo>
                  <a:cubicBezTo>
                    <a:pt x="33306" y="339235"/>
                    <a:pt x="64546" y="365760"/>
                    <a:pt x="64546" y="365760"/>
                  </a:cubicBezTo>
                  <a:cubicBezTo>
                    <a:pt x="68132" y="376518"/>
                    <a:pt x="68712" y="388806"/>
                    <a:pt x="75303" y="398033"/>
                  </a:cubicBezTo>
                  <a:cubicBezTo>
                    <a:pt x="106670" y="441948"/>
                    <a:pt x="120343" y="429450"/>
                    <a:pt x="139849" y="473337"/>
                  </a:cubicBezTo>
                  <a:cubicBezTo>
                    <a:pt x="149060" y="494061"/>
                    <a:pt x="161365" y="537882"/>
                    <a:pt x="161365" y="537882"/>
                  </a:cubicBezTo>
                  <a:cubicBezTo>
                    <a:pt x="146879" y="624796"/>
                    <a:pt x="157504" y="581738"/>
                    <a:pt x="129092" y="666974"/>
                  </a:cubicBezTo>
                  <a:cubicBezTo>
                    <a:pt x="125506" y="677732"/>
                    <a:pt x="126352" y="691229"/>
                    <a:pt x="118334" y="699247"/>
                  </a:cubicBezTo>
                  <a:lnTo>
                    <a:pt x="86061" y="731520"/>
                  </a:lnTo>
                  <a:cubicBezTo>
                    <a:pt x="82475" y="742278"/>
                    <a:pt x="80374" y="753651"/>
                    <a:pt x="75303" y="763793"/>
                  </a:cubicBezTo>
                  <a:cubicBezTo>
                    <a:pt x="69521" y="775357"/>
                    <a:pt x="59039" y="784251"/>
                    <a:pt x="53788" y="796066"/>
                  </a:cubicBezTo>
                  <a:cubicBezTo>
                    <a:pt x="44577" y="816790"/>
                    <a:pt x="32273" y="860612"/>
                    <a:pt x="32273" y="860612"/>
                  </a:cubicBezTo>
                  <a:cubicBezTo>
                    <a:pt x="35859" y="910814"/>
                    <a:pt x="33755" y="961751"/>
                    <a:pt x="43030" y="1011219"/>
                  </a:cubicBezTo>
                  <a:cubicBezTo>
                    <a:pt x="44899" y="1021188"/>
                    <a:pt x="58210" y="1024814"/>
                    <a:pt x="64546" y="1032734"/>
                  </a:cubicBezTo>
                  <a:cubicBezTo>
                    <a:pt x="72623" y="1042830"/>
                    <a:pt x="77471" y="1055344"/>
                    <a:pt x="86061" y="1065007"/>
                  </a:cubicBezTo>
                  <a:cubicBezTo>
                    <a:pt x="139652" y="1125298"/>
                    <a:pt x="133829" y="1118368"/>
                    <a:pt x="182880" y="1151068"/>
                  </a:cubicBezTo>
                  <a:cubicBezTo>
                    <a:pt x="186466" y="1161826"/>
                    <a:pt x="193637" y="1172001"/>
                    <a:pt x="193637" y="1183341"/>
                  </a:cubicBezTo>
                  <a:cubicBezTo>
                    <a:pt x="193637" y="1201625"/>
                    <a:pt x="187691" y="1219489"/>
                    <a:pt x="182880" y="1237129"/>
                  </a:cubicBezTo>
                  <a:cubicBezTo>
                    <a:pt x="176913" y="1259009"/>
                    <a:pt x="168537" y="1280160"/>
                    <a:pt x="161365" y="1301675"/>
                  </a:cubicBezTo>
                  <a:cubicBezTo>
                    <a:pt x="157779" y="1312433"/>
                    <a:pt x="158625" y="1325929"/>
                    <a:pt x="150607" y="1333948"/>
                  </a:cubicBezTo>
                  <a:lnTo>
                    <a:pt x="129092" y="1355464"/>
                  </a:lnTo>
                  <a:cubicBezTo>
                    <a:pt x="111530" y="1408148"/>
                    <a:pt x="118334" y="1376397"/>
                    <a:pt x="118334" y="1452282"/>
                  </a:cubicBezTo>
                </a:path>
              </a:pathLst>
            </a:custGeom>
            <a:noFill/>
            <a:ln w="28440">
              <a:solidFill>
                <a:srgbClr val="2159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Group 20"/>
          <p:cNvGrpSpPr/>
          <p:nvPr/>
        </p:nvGrpSpPr>
        <p:grpSpPr>
          <a:xfrm>
            <a:off x="533520" y="2971800"/>
            <a:ext cx="1993680" cy="2352600"/>
            <a:chOff x="533520" y="2971800"/>
            <a:chExt cx="1993680" cy="2352600"/>
          </a:xfrm>
        </p:grpSpPr>
        <p:pic>
          <p:nvPicPr>
            <p:cNvPr id="55" name="Picture 8" descr="logo ag 21.jpg"/>
            <p:cNvPicPr/>
            <p:nvPr/>
          </p:nvPicPr>
          <p:blipFill>
            <a:blip r:embed="rId3"/>
            <a:stretch/>
          </p:blipFill>
          <p:spPr>
            <a:xfrm>
              <a:off x="533520" y="2971800"/>
              <a:ext cx="199368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Freeform 13"/>
            <p:cNvSpPr/>
            <p:nvPr/>
          </p:nvSpPr>
          <p:spPr>
            <a:xfrm>
              <a:off x="936000" y="3872520"/>
              <a:ext cx="214920" cy="1451880"/>
            </a:xfrm>
            <a:custGeom>
              <a:avLst/>
              <a:gdLst/>
              <a:ahLst/>
              <a:rect l="l" t="t" r="r" b="b"/>
              <a:pathLst>
                <a:path w="215153" h="1452282">
                  <a:moveTo>
                    <a:pt x="32273" y="0"/>
                  </a:moveTo>
                  <a:cubicBezTo>
                    <a:pt x="28074" y="8398"/>
                    <a:pt x="0" y="59477"/>
                    <a:pt x="0" y="75303"/>
                  </a:cubicBezTo>
                  <a:cubicBezTo>
                    <a:pt x="0" y="87834"/>
                    <a:pt x="7552" y="222706"/>
                    <a:pt x="32273" y="247426"/>
                  </a:cubicBezTo>
                  <a:cubicBezTo>
                    <a:pt x="72074" y="287225"/>
                    <a:pt x="48163" y="260502"/>
                    <a:pt x="96819" y="333487"/>
                  </a:cubicBezTo>
                  <a:cubicBezTo>
                    <a:pt x="103991" y="344245"/>
                    <a:pt x="114245" y="353494"/>
                    <a:pt x="118334" y="365760"/>
                  </a:cubicBezTo>
                  <a:cubicBezTo>
                    <a:pt x="133767" y="412059"/>
                    <a:pt x="126342" y="387032"/>
                    <a:pt x="139850" y="441063"/>
                  </a:cubicBezTo>
                  <a:cubicBezTo>
                    <a:pt x="131752" y="546336"/>
                    <a:pt x="154017" y="555137"/>
                    <a:pt x="107577" y="613186"/>
                  </a:cubicBezTo>
                  <a:cubicBezTo>
                    <a:pt x="101241" y="621106"/>
                    <a:pt x="93233" y="627529"/>
                    <a:pt x="86061" y="634701"/>
                  </a:cubicBezTo>
                  <a:cubicBezTo>
                    <a:pt x="78889" y="649045"/>
                    <a:pt x="72797" y="663981"/>
                    <a:pt x="64546" y="677732"/>
                  </a:cubicBezTo>
                  <a:cubicBezTo>
                    <a:pt x="9060" y="770210"/>
                    <a:pt x="32397" y="709635"/>
                    <a:pt x="10758" y="774551"/>
                  </a:cubicBezTo>
                  <a:cubicBezTo>
                    <a:pt x="19508" y="800798"/>
                    <a:pt x="22178" y="818243"/>
                    <a:pt x="43031" y="839096"/>
                  </a:cubicBezTo>
                  <a:cubicBezTo>
                    <a:pt x="52173" y="848238"/>
                    <a:pt x="65372" y="852335"/>
                    <a:pt x="75304" y="860612"/>
                  </a:cubicBezTo>
                  <a:cubicBezTo>
                    <a:pt x="86991" y="870352"/>
                    <a:pt x="96819" y="882127"/>
                    <a:pt x="107577" y="892885"/>
                  </a:cubicBezTo>
                  <a:cubicBezTo>
                    <a:pt x="111163" y="903643"/>
                    <a:pt x="111250" y="916303"/>
                    <a:pt x="118334" y="925158"/>
                  </a:cubicBezTo>
                  <a:cubicBezTo>
                    <a:pt x="126411" y="935254"/>
                    <a:pt x="140511" y="938596"/>
                    <a:pt x="150607" y="946673"/>
                  </a:cubicBezTo>
                  <a:cubicBezTo>
                    <a:pt x="158527" y="953009"/>
                    <a:pt x="166037" y="960074"/>
                    <a:pt x="172123" y="968188"/>
                  </a:cubicBezTo>
                  <a:cubicBezTo>
                    <a:pt x="187638" y="988874"/>
                    <a:pt x="215153" y="1032734"/>
                    <a:pt x="215153" y="1032734"/>
                  </a:cubicBezTo>
                  <a:cubicBezTo>
                    <a:pt x="209775" y="1065001"/>
                    <a:pt x="201824" y="1133410"/>
                    <a:pt x="182880" y="1161826"/>
                  </a:cubicBezTo>
                  <a:cubicBezTo>
                    <a:pt x="175708" y="1172584"/>
                    <a:pt x="166616" y="1182284"/>
                    <a:pt x="161365" y="1194099"/>
                  </a:cubicBezTo>
                  <a:cubicBezTo>
                    <a:pt x="152154" y="1214823"/>
                    <a:pt x="147022" y="1237130"/>
                    <a:pt x="139850" y="1258645"/>
                  </a:cubicBezTo>
                  <a:cubicBezTo>
                    <a:pt x="114058" y="1336022"/>
                    <a:pt x="145348" y="1239398"/>
                    <a:pt x="118334" y="1333948"/>
                  </a:cubicBezTo>
                  <a:cubicBezTo>
                    <a:pt x="105326" y="1379477"/>
                    <a:pt x="104108" y="1361696"/>
                    <a:pt x="96819" y="1420009"/>
                  </a:cubicBezTo>
                  <a:cubicBezTo>
                    <a:pt x="95485" y="1430684"/>
                    <a:pt x="96819" y="1441524"/>
                    <a:pt x="96819" y="1452282"/>
                  </a:cubicBezTo>
                </a:path>
              </a:pathLst>
            </a:custGeom>
            <a:noFill/>
            <a:ln w="2844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Group 19"/>
          <p:cNvGrpSpPr/>
          <p:nvPr/>
        </p:nvGrpSpPr>
        <p:grpSpPr>
          <a:xfrm>
            <a:off x="7778880" y="457200"/>
            <a:ext cx="1365120" cy="2138400"/>
            <a:chOff x="7778880" y="457200"/>
            <a:chExt cx="1365120" cy="2138400"/>
          </a:xfrm>
        </p:grpSpPr>
        <p:pic>
          <p:nvPicPr>
            <p:cNvPr id="58" name="Picture 10" descr="logo primaria askim.jpg"/>
            <p:cNvPicPr/>
            <p:nvPr/>
          </p:nvPicPr>
          <p:blipFill>
            <a:blip r:embed="rId4"/>
            <a:stretch/>
          </p:blipFill>
          <p:spPr>
            <a:xfrm>
              <a:off x="7778880" y="457200"/>
              <a:ext cx="1365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Freeform 17"/>
            <p:cNvSpPr/>
            <p:nvPr/>
          </p:nvSpPr>
          <p:spPr>
            <a:xfrm>
              <a:off x="8001360" y="1143000"/>
              <a:ext cx="214920" cy="1452600"/>
            </a:xfrm>
            <a:custGeom>
              <a:avLst/>
              <a:gdLst/>
              <a:ahLst/>
              <a:rect l="l" t="t" r="r" b="b"/>
              <a:pathLst>
                <a:path w="215153" h="1452282">
                  <a:moveTo>
                    <a:pt x="32273" y="0"/>
                  </a:moveTo>
                  <a:cubicBezTo>
                    <a:pt x="28074" y="8398"/>
                    <a:pt x="0" y="59477"/>
                    <a:pt x="0" y="75303"/>
                  </a:cubicBezTo>
                  <a:cubicBezTo>
                    <a:pt x="0" y="87834"/>
                    <a:pt x="7552" y="222706"/>
                    <a:pt x="32273" y="247426"/>
                  </a:cubicBezTo>
                  <a:cubicBezTo>
                    <a:pt x="72074" y="287225"/>
                    <a:pt x="48163" y="260502"/>
                    <a:pt x="96819" y="333487"/>
                  </a:cubicBezTo>
                  <a:cubicBezTo>
                    <a:pt x="103991" y="344245"/>
                    <a:pt x="114245" y="353494"/>
                    <a:pt x="118334" y="365760"/>
                  </a:cubicBezTo>
                  <a:cubicBezTo>
                    <a:pt x="133767" y="412059"/>
                    <a:pt x="126342" y="387032"/>
                    <a:pt x="139850" y="441063"/>
                  </a:cubicBezTo>
                  <a:cubicBezTo>
                    <a:pt x="131752" y="546336"/>
                    <a:pt x="154017" y="555137"/>
                    <a:pt x="107577" y="613186"/>
                  </a:cubicBezTo>
                  <a:cubicBezTo>
                    <a:pt x="101241" y="621106"/>
                    <a:pt x="93233" y="627529"/>
                    <a:pt x="86061" y="634701"/>
                  </a:cubicBezTo>
                  <a:cubicBezTo>
                    <a:pt x="78889" y="649045"/>
                    <a:pt x="72797" y="663981"/>
                    <a:pt x="64546" y="677732"/>
                  </a:cubicBezTo>
                  <a:cubicBezTo>
                    <a:pt x="9060" y="770210"/>
                    <a:pt x="32397" y="709635"/>
                    <a:pt x="10758" y="774551"/>
                  </a:cubicBezTo>
                  <a:cubicBezTo>
                    <a:pt x="19508" y="800798"/>
                    <a:pt x="22178" y="818243"/>
                    <a:pt x="43031" y="839096"/>
                  </a:cubicBezTo>
                  <a:cubicBezTo>
                    <a:pt x="52173" y="848238"/>
                    <a:pt x="65372" y="852335"/>
                    <a:pt x="75304" y="860612"/>
                  </a:cubicBezTo>
                  <a:cubicBezTo>
                    <a:pt x="86991" y="870352"/>
                    <a:pt x="96819" y="882127"/>
                    <a:pt x="107577" y="892885"/>
                  </a:cubicBezTo>
                  <a:cubicBezTo>
                    <a:pt x="111163" y="903643"/>
                    <a:pt x="111250" y="916303"/>
                    <a:pt x="118334" y="925158"/>
                  </a:cubicBezTo>
                  <a:cubicBezTo>
                    <a:pt x="126411" y="935254"/>
                    <a:pt x="140511" y="938596"/>
                    <a:pt x="150607" y="946673"/>
                  </a:cubicBezTo>
                  <a:cubicBezTo>
                    <a:pt x="158527" y="953009"/>
                    <a:pt x="166037" y="960074"/>
                    <a:pt x="172123" y="968188"/>
                  </a:cubicBezTo>
                  <a:cubicBezTo>
                    <a:pt x="187638" y="988874"/>
                    <a:pt x="215153" y="1032734"/>
                    <a:pt x="215153" y="1032734"/>
                  </a:cubicBezTo>
                  <a:cubicBezTo>
                    <a:pt x="209775" y="1065001"/>
                    <a:pt x="201824" y="1133410"/>
                    <a:pt x="182880" y="1161826"/>
                  </a:cubicBezTo>
                  <a:cubicBezTo>
                    <a:pt x="175708" y="1172584"/>
                    <a:pt x="166616" y="1182284"/>
                    <a:pt x="161365" y="1194099"/>
                  </a:cubicBezTo>
                  <a:cubicBezTo>
                    <a:pt x="152154" y="1214823"/>
                    <a:pt x="147022" y="1237130"/>
                    <a:pt x="139850" y="1258645"/>
                  </a:cubicBezTo>
                  <a:cubicBezTo>
                    <a:pt x="114058" y="1336022"/>
                    <a:pt x="145348" y="1239398"/>
                    <a:pt x="118334" y="1333948"/>
                  </a:cubicBezTo>
                  <a:cubicBezTo>
                    <a:pt x="105326" y="1379477"/>
                    <a:pt x="104108" y="1361696"/>
                    <a:pt x="96819" y="1420009"/>
                  </a:cubicBezTo>
                  <a:cubicBezTo>
                    <a:pt x="95485" y="1430684"/>
                    <a:pt x="96819" y="1441524"/>
                    <a:pt x="96819" y="1452282"/>
                  </a:cubicBezTo>
                </a:path>
              </a:pathLst>
            </a:custGeom>
            <a:noFill/>
            <a:ln w="2844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6781680" y="2286000"/>
            <a:ext cx="1881360" cy="2367000"/>
            <a:chOff x="6781680" y="2286000"/>
            <a:chExt cx="1881360" cy="2367000"/>
          </a:xfrm>
        </p:grpSpPr>
        <p:pic>
          <p:nvPicPr>
            <p:cNvPr id="61" name="Picture 9" descr="logo pmb.jpg"/>
            <p:cNvPicPr/>
            <p:nvPr/>
          </p:nvPicPr>
          <p:blipFill>
            <a:blip r:embed="rId5"/>
            <a:stretch/>
          </p:blipFill>
          <p:spPr>
            <a:xfrm>
              <a:off x="6781680" y="2286000"/>
              <a:ext cx="18813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Freeform 16"/>
            <p:cNvSpPr/>
            <p:nvPr/>
          </p:nvSpPr>
          <p:spPr>
            <a:xfrm>
              <a:off x="7086600" y="3200400"/>
              <a:ext cx="214920" cy="1452600"/>
            </a:xfrm>
            <a:custGeom>
              <a:avLst/>
              <a:gdLst/>
              <a:ahLst/>
              <a:rect l="l" t="t" r="r" b="b"/>
              <a:pathLst>
                <a:path w="215153" h="1452282">
                  <a:moveTo>
                    <a:pt x="32273" y="0"/>
                  </a:moveTo>
                  <a:cubicBezTo>
                    <a:pt x="28074" y="8398"/>
                    <a:pt x="0" y="59477"/>
                    <a:pt x="0" y="75303"/>
                  </a:cubicBezTo>
                  <a:cubicBezTo>
                    <a:pt x="0" y="87834"/>
                    <a:pt x="7552" y="222706"/>
                    <a:pt x="32273" y="247426"/>
                  </a:cubicBezTo>
                  <a:cubicBezTo>
                    <a:pt x="72074" y="287225"/>
                    <a:pt x="48163" y="260502"/>
                    <a:pt x="96819" y="333487"/>
                  </a:cubicBezTo>
                  <a:cubicBezTo>
                    <a:pt x="103991" y="344245"/>
                    <a:pt x="114245" y="353494"/>
                    <a:pt x="118334" y="365760"/>
                  </a:cubicBezTo>
                  <a:cubicBezTo>
                    <a:pt x="133767" y="412059"/>
                    <a:pt x="126342" y="387032"/>
                    <a:pt x="139850" y="441063"/>
                  </a:cubicBezTo>
                  <a:cubicBezTo>
                    <a:pt x="131752" y="546336"/>
                    <a:pt x="154017" y="555137"/>
                    <a:pt x="107577" y="613186"/>
                  </a:cubicBezTo>
                  <a:cubicBezTo>
                    <a:pt x="101241" y="621106"/>
                    <a:pt x="93233" y="627529"/>
                    <a:pt x="86061" y="634701"/>
                  </a:cubicBezTo>
                  <a:cubicBezTo>
                    <a:pt x="78889" y="649045"/>
                    <a:pt x="72797" y="663981"/>
                    <a:pt x="64546" y="677732"/>
                  </a:cubicBezTo>
                  <a:cubicBezTo>
                    <a:pt x="9060" y="770210"/>
                    <a:pt x="32397" y="709635"/>
                    <a:pt x="10758" y="774551"/>
                  </a:cubicBezTo>
                  <a:cubicBezTo>
                    <a:pt x="19508" y="800798"/>
                    <a:pt x="22178" y="818243"/>
                    <a:pt x="43031" y="839096"/>
                  </a:cubicBezTo>
                  <a:cubicBezTo>
                    <a:pt x="52173" y="848238"/>
                    <a:pt x="65372" y="852335"/>
                    <a:pt x="75304" y="860612"/>
                  </a:cubicBezTo>
                  <a:cubicBezTo>
                    <a:pt x="86991" y="870352"/>
                    <a:pt x="96819" y="882127"/>
                    <a:pt x="107577" y="892885"/>
                  </a:cubicBezTo>
                  <a:cubicBezTo>
                    <a:pt x="111163" y="903643"/>
                    <a:pt x="111250" y="916303"/>
                    <a:pt x="118334" y="925158"/>
                  </a:cubicBezTo>
                  <a:cubicBezTo>
                    <a:pt x="126411" y="935254"/>
                    <a:pt x="140511" y="938596"/>
                    <a:pt x="150607" y="946673"/>
                  </a:cubicBezTo>
                  <a:cubicBezTo>
                    <a:pt x="158527" y="953009"/>
                    <a:pt x="166037" y="960074"/>
                    <a:pt x="172123" y="968188"/>
                  </a:cubicBezTo>
                  <a:cubicBezTo>
                    <a:pt x="187638" y="988874"/>
                    <a:pt x="215153" y="1032734"/>
                    <a:pt x="215153" y="1032734"/>
                  </a:cubicBezTo>
                  <a:cubicBezTo>
                    <a:pt x="209775" y="1065001"/>
                    <a:pt x="201824" y="1133410"/>
                    <a:pt x="182880" y="1161826"/>
                  </a:cubicBezTo>
                  <a:cubicBezTo>
                    <a:pt x="175708" y="1172584"/>
                    <a:pt x="166616" y="1182284"/>
                    <a:pt x="161365" y="1194099"/>
                  </a:cubicBezTo>
                  <a:cubicBezTo>
                    <a:pt x="152154" y="1214823"/>
                    <a:pt x="147022" y="1237130"/>
                    <a:pt x="139850" y="1258645"/>
                  </a:cubicBezTo>
                  <a:cubicBezTo>
                    <a:pt x="114058" y="1336022"/>
                    <a:pt x="145348" y="1239398"/>
                    <a:pt x="118334" y="1333948"/>
                  </a:cubicBezTo>
                  <a:cubicBezTo>
                    <a:pt x="105326" y="1379477"/>
                    <a:pt x="104108" y="1361696"/>
                    <a:pt x="96819" y="1420009"/>
                  </a:cubicBezTo>
                  <a:cubicBezTo>
                    <a:pt x="95485" y="1430684"/>
                    <a:pt x="96819" y="1441524"/>
                    <a:pt x="96819" y="1452282"/>
                  </a:cubicBezTo>
                </a:path>
              </a:pathLst>
            </a:custGeom>
            <a:noFill/>
            <a:ln w="2844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Date Placeholder 2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FBEB-C046-422E-A3BA-A60F09B08A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83993 C -0.00348 0.83646 -8.33333000000401E-007 0.83808 -0.00573 0.8353 C -0.00695 0.83368 -0.00816 0.83206 -0.00938 0.83068 C -0.01042 0.82952 -0.01181 0.82859 -0.01285 0.82744 C -0.01563 0.82397 -0.02101 0.81657 -0.02101 0.81657 C -0.02257 0.81009 -0.02483 0.80639 -0.02587 0.79922 C -0.02657 0.78672 -0.02639 0.77331 -0.02934 0.76151 C -0.02882 0.75156 -0.03108 0.74 -0.02691 0.7319 C -0.02188 0.72196 -0.00521 0.71964 0.00243 0.71779 C 0.00764 0.7164 0.02326 0.70229 0.0283 0.69744 C 0.03107 0.69188 0.03489 0.69003 0.03767 0.68471 C 0.04114 0.67824 0.04236 0.67037 0.04357 0.66274 C 0.04323 0.65927 0.04288 0.64863 0.04114 0.644 C 0.03611 0.6285 0.02135 0.62549 0.0118 0.6174 C 0.00694 0.61323 0.00208 0.61185 -0.00348 0.60953 C -0.00469 0.60884 -0.00695 0.60791 -0.00695 0.60791 C -0.00973 0.60514 -0.01302 0.60236 -0.01528 0.59866 C -0.01927 0.59218 -0.01823 0.58617 -0.02344 0.58108 C -0.025 0.57345 -0.02657 0.56558 -0.02813 0.55772 C -0.02709 0.54291 -0.02726 0.53158 -0.01875 0.52186 C -0.01511 0.5177 -0.0099 0.51515 -0.00573 0.51238 C -0.00348 0.51099 0.00121 0.50914 0.00121 0.50914 C 0.01059 0.5103 0.02656 0.5096 0.03663 0.517 C 0.04184 0.52071 0.04514 0.52556 0.05069 0.52811 C 0.05972 0.52556 0.05972 0.52047 0.06718 0.517 C 0.0684 0.51492 0.06944 0.51261 0.07066 0.51076 C 0.07291 0.50752 0.07777 0.50127 0.07777 0.50127 C 0.08264 0.483 0.0776 0.46056 0.06944 0.44506 C 0.06753 0.43674 0.06649 0.43304 0.06128 0.42771 C 0.0592 0.41985 0.05746 0.41592 0.05191 0.41199 C 0.0493 0.40736 0.04861 0.40505 0.04479 0.40273 C 0.04253 0.40134 0.03767 0.39949 0.03767 0.39949 C 0.03541 0.39996 0.03298 0.40042 0.03073 0.40111 C 0.0283 0.40181 0.02361 0.40412 0.02361 0.40412 C 0.01649 0.41083 0.00607 0.40944 -0.00226 0.41037 C -0.0099 0.41245 -0.01702 0.41199 -0.02466 0.40898 C -0.02986 0.40435 -0.0349 0.39973 -0.03993 0.39487 C -0.04375 0.38631 -0.04601 0.37729 -0.05052 0.36965 C -0.05261 0.35092 -0.05417 0.33172 -0.04688 0.31483 C -0.04584 0.31229 -0.04236 0.30026 -0.03993 0.2991 C -0.03664 0.29748 -0.03282 0.29818 -0.02934 0.29748 C -0.0165 0.29841 -0.00764 0.29656 0.00243 0.30535 C 0.02222 0.30442 0.03784 0.30211 0.05659 0.2991 C 0.05781 0.29748 0.05868 0.29563 0.06007 0.29447 C 0.06111 0.29355 0.06267 0.29401 0.06371 0.29285 C 0.06684 0.28939 0.06892 0.2843 0.07187 0.28036 C 0.0743 0.27389 0.07691 0.26833 0.07899 0.26163 C 0.08055 0.24312 0.08264 0.22508 0.08368 0.20657 C 0.08142 0.18275 0.07239 0.16239 0.05659 0.15036 C 0.05156 0.14643 0.04444 0.14643 0.03889 0.14388 C 0.03767 0.14435 0.03229 0.14597 0.03073 0.14712 C 0.0283 0.14897 0.02361 0.15337 0.02361 0.15337 C 0.01788 0.16378 0.01024 0.16679 0.00121 0.17072 C -0.00608 0.16817 -0.01407 0.16632 -0.02101 0.16285 C -0.02709 0.15985 -0.03039 0.15267 -0.03629 0.15036 C -0.03716 0.14597 -0.03976 0.14227 -0.03993 0.13764 C -0.04184 0.10155 -0.01875 0.10225 -0.00573 0.07981 C -0.00382 0.07287 -0.00191 0.06593 -8.33333E-007 0.05922 C 0.00191 0.04627 0.00503 0.03632 0.00955 0.02475 C 0.01128 0.02036 0.01302 0.01064 0.01302 0.01064 C 0.01163 0.0037 0.01232 0.00047 0.00711 -0.00185 C 0.00486 -0.00139 -8.33333E-007 -0.00023 -8.33333E-007 -0.00023 E">
                                      <p:cBhvr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1441 0.49051 C 0.81927 0.47894 0.82378 0.46759 0.82986 0.45718 C 0.83194 0.44352 0.83333 0.42917 0.83576 0.41574 C 0.83489 0.38472 0.83576 0.34838 0.82274 0.3206 C 0.82031 0.30926 0.81701 0.30069 0.80833 0.29676 C 0.79409 0.28357 0.78923 0.29097 0.76562 0.29213 C 0.75104 0.2963 0.73784 0.30463 0.72396 0.31111 C 0.71875 0.31782 0.71354 0.32569 0.70729 0.33009 C 0.6967 0.34861 0.68628 0.36597 0.67396 0.38241 C 0.66771 0.39074 0.66232 0.39769 0.65364 0.4 C 0.64028 0.41181 0.62864 0.41482 0.61319 0.41736 C 0.57083 0.41574 0.58368 0.4206 0.56319 0.41111 C 0.56007 0.40556 0.55659 0.40255 0.55364 0.39676 C 0.55034 0.37986 0.55156 0.38843 0.55 0.3713 C 0.55191 0.33194 0.5559 0.28796 0.55 0.24907 C 0.54896 0.23125 0.54548 0.21829 0.54062 0.20162 C 0.53906 0.19653 0.52986 0.19352 0.52621 0.19213 C 0.51163 0.19375 0.49791 0.19815 0.48333 0.2 C 0.47725 0.20417 0.47378 0.20486 0.46666 0.20625 C 0.45521 0.21667 0.44219 0.22477 0.43229 0.23796 C 0.43003 0.24722 0.42604 0.25532 0.42396 0.26505 C 0.42274 0.28009 0.41927 0.29005 0.41441 0.30324 C 0.41146 0.31134 0.41076 0.31875 0.40607 0.32546 C 0.40469 0.33403 0.40191 0.3412 0.39896 0.34907 C 0.396 0.35694 0.39948 0.35093 0.39653 0.36019 C 0.39097 0.37708 0.38333 0.39792 0.37031 0.40625 C 0.36528 0.41296 0.3592 0.41505 0.35243 0.41736 C 0.34219 0.4125 0.33073 0.41482 0.32031 0.40949 C 0.3158 0.40718 0.30937 0.40324 0.30607 0.39838 C 0.30416 0.3956 0.30121 0.38889 0.30121 0.38889 C 0.29965 0.37523 0.29809 0.35787 0.30607 0.34769 C 0.30903 0.33935 0.31406 0.33426 0.32031 0.33009 C 0.32413 0.32037 0.33125 0.31389 0.33698 0.30625 C 0.34253 0.29884 0.34462 0.28935 0.34896 0.28102 C 0.35139 0.27083 0.35347 0.26134 0.35486 0.25069 C 0.35347 0.23449 0.35208 0.21898 0.34062 0.21111 C 0.33663 0.21157 0.33264 0.21181 0.32864 0.21273 C 0.32066 0.21482 0.31406 0.22269 0.30607 0.22546 C 0.30069 0.23056 0.29444 0.23657 0.28819 0.23958 C 0.27899 0.24931 0.27048 0.25926 0.26198 0.26991 C 0.25746 0.27546 0.25243 0.28056 0.24896 0.28727 C 0.24739 0.29051 0.24409 0.29676 0.24409 0.29676 C 0.24236 0.3037 0.24028 0.30857 0.23698 0.31435 C 0.23385 0.32616 0.22118 0.34282 0.21319 0.34907 C 0.20729 0.35949 0.1993 0.36435 0.19062 0.36991 C 0.18646 0.37269 0.17743 0.37616 0.17743 0.37616 C 0.17083 0.37477 0.16111 0.37292 0.15486 0.36829 C 0.14548 0.36111 0.1434 0.35833 0.13229 0.35394 C 0.12534 0.34792 0.11909 0.34074 0.11198 0.33495 C 0.10989 0.33125 0.10625 0.32847 0.10607 0.32384 C 0.10573 0.31273 0.10625 0.30162 0.10729 0.29051 C 0.10781 0.28495 0.11302 0.28079 0.11562 0.27778 C 0.12778 0.26389 0.13628 0.25463 0.15243 0.24907 C 0.16041 0.24236 0.16701 0.2375 0.17396 0.22847 C 0.17552 0.22639 0.17708 0.22431 0.17864 0.22222 C 0.17986 0.2206 0.18229 0.21736 0.18229 0.21736 C 0.18472 0.21042 0.18767 0.20532 0.19166 0.2 C 0.18993 0.19167 0.18698 0.19375 0.18107 0.19213 C 0.16753 0.16482 0.13889 0.15463 0.11562 0.15069 C 0.10764 0.15162 0.09896 0.15139 0.09166 0.15718 C 0.07882 0.16759 0.0842 0.16482 0.07621 0.16829 C 0.07222 0.17361 0.06719 0.17708 0.06319 0.18241 C 0.05955 0.18727 0.05764 0.19421 0.05364 0.19838 C 0.03802 0.21458 0.0276 0.22292 0.00729 0.22546 C -0.0099 0.23171 -0.02604 0.22801 -0.04271 0.22222 C -0.04688 0.21806 -0.05035 0.2162 -0.05469 0.21273 C -0.05591 0.20625 -0.05729 0.20023 -0.05834 0.19352 C -0.05729 0.15208 -0.06667 0.13704 -0.03924 0.13333 C -0.03455 0.13264 -0.02969 0.13218 -0.025 0.13171 C -0.00226 0.12569 -0.0349 0.1338 0.02621 0.12847 C 0.02864 0.12824 0.03333 0.12546 0.03333 0.12546 C 0.03715 0.12222 0.04097 0.11852 0.04288 0.11273 C 0.04392 0.10972 0.04444 0.10648 0.04531 0.10324 C 0.04566 0.10162 0.04653 0.09838 0.04653 0.09838 C 0.04566 0.08704 0.04496 0.0706 0.04062 0.06019 C 0.03333 0.04259 0.02326 0.02407 0.00833 0.01736 C 0.0059 0.0125 0.00312 0.00417 3.61111E-006 7.40741E-007 E">
                                      <p:cBhvr>
                                        <p:cTn id="25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52 0.89167 C 0.03628 0.89028 0.02673 0.88773 0.01666 0.88542 C 0.00954 0.88056 0.00138 0.8794 -0.00591 0.87431 C -0.00921 0.87199 -0.01216 0.86852 -0.01546 0.86644 C -0.01685 0.86551 -0.01858 0.86574 -0.02015 0.86482 C -0.02344 0.86297 -0.02657 0.86042 -0.02969 0.85834 C -0.04289 0.84931 -0.02605 0.86482 -0.03924 0.85371 C -0.04463 0.84908 -0.05122 0.84398 -0.05591 0.8375 C -0.06372 0.82709 -0.05261 0.8382 -0.06181 0.82963 C -0.06945 0.81435 -0.05747 0.83704 -0.06893 0.82037 C -0.07084 0.8176 -0.07379 0.81065 -0.07379 0.81065 C -0.07605 0.80162 -0.08056 0.7919 -0.0856 0.78542 C -0.08647 0.78195 -0.08716 0.77894 -0.08803 0.7757 C -0.0889 0.77199 -0.09289 0.76644 -0.09289 0.76644 C -0.09532 0.75463 -0.09792 0.74514 -0.09879 0.73287 C -0.10053 0.70718 -0.0981 0.71829 -0.10122 0.70579 C -0.10244 0.675 -0.1106 0.62385 -0.08681 0.60278 C -0.08265 0.59445 -0.07726 0.58866 -0.07015 0.58519 C -0.06563 0.57894 -0.06129 0.57639 -0.05591 0.57269 C -0.04792 0.5669 -0.04098 0.5588 -0.03213 0.5551 C -0.02292 0.54676 -0.01216 0.54097 -0.00226 0.53449 C 0.00468 0.5301 -0.00226 0.5331 0.00485 0.52662 C 0.00833 0.52315 0.0151 0.51898 0.01909 0.5169 C 0.02447 0.50972 0.02847 0.50047 0.03454 0.49491 C 0.03697 0.48866 0.04044 0.48658 0.04287 0.48033 C 0.04496 0.47523 0.04808 0.47176 0.04999 0.46644 C 0.05242 0.45972 0.05416 0.45209 0.05711 0.4456 C 0.06024 0.43866 0.06232 0.43681 0.0644 0.42986 C 0.07343 0.39977 0.07847 0.36945 0.08333 0.3375 C 0.08628 0.31806 0.08784 0.29861 0.0894 0.27871 C 0.09027 0.2676 0.09166 0.2456 0.09166 0.2456 C 0.09131 0.23565 0.09114 0.22547 0.09044 0.21551 C 0.0901 0.20972 0.08888 0.19398 0.08576 0.19005 C 0.07135 0.17176 0.06145 0.1713 0.04166 0.16945 C 0.03072 0.16644 0.01926 0.16852 0.00954 0.15996 C -0.00035 0.14097 0.01492 0.16922 0.00364 0.15209 C -0.00018 0.14653 -0.00348 0.14028 -0.00713 0.13449 C -0.00834 0.13241 -0.00956 0.13033 -0.0106 0.12824 C -0.01233 0.125 -0.01546 0.11875 -0.01546 0.11875 C -0.01476 0.10602 -0.01581 0.09699 -0.0106 0.08704 C -0.00782 0.07431 -0.00469 0.06181 -0.00226 0.04885 C -0.00192 0.0419 -0.00157 0.03519 -0.00122 0.02824 C -0.0007 0.01875 -5.55556E-006 -0.00023 -5.55556E-006 -0.00023 E">
                                      <p:cBhvr>
                                        <p:cTn id="30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712 0.53958 C -0.60642 0.52152 -0.60729 0.49583 -0.59878 0.47939 C -0.59635 0.46944 -0.59045 0.46203 -0.58576 0.45393 C -0.58003 0.44421 -0.57691 0.43425 -0.5691 0.42684 C -0.55747 0.40416 -0.54462 0.37777 -0.52378 0.3699 C -0.51441 0.3611 -0.50278 0.36134 -0.49167 0.36018 C -0.45868 0.35231 -0.42257 0.35809 -0.39045 0.35879 C -0.37691 0.36018 -0.36285 0.36203 -0.35 0.36828 C -0.34497 0.37083 -0.34045 0.37453 -0.33576 0.37777 C -0.32951 0.38194 -0.32222 0.38448 -0.31667 0.3905 C -0.31007 0.39745 -0.30365 0.40532 -0.29635 0.4111 C -0.28837 0.41735 -0.28038 0.42314 -0.27257 0.43009 C -0.26892 0.43796 -0.26354 0.44166 -0.25712 0.44444 C -0.25347 0.44768 -0.25052 0.45046 -0.24635 0.45231 C -0.23663 0.46527 -0.23333 0.46458 -0.22135 0.47129 C -0.21719 0.4736 -0.21389 0.47731 -0.20955 0.47939 C -0.20851 0.48101 -0.20729 0.48286 -0.2059 0.48402 C -0.20486 0.48495 -0.20347 0.48471 -0.20243 0.48564 C -0.19687 0.49073 -0.19861 0.49096 -0.19167 0.49351 C -0.17517 0.51087 -0.15434 0.51921 -0.13455 0.52846 C -0.09757 0.52661 -0.06163 0.52198 -0.025 0.51573 C -0.00469 0.50717 -0.03455 0.51921 -0.00712 0.5111 C -0.00243 0.50971 0.00243 0.50624 0.00712 0.50462 C 0.01545 0.49768 0.01979 0.4868 0.02743 0.47939 C 0.03125 0.47059 0.03611 0.46388 0.04045 0.45555 C 0.04219 0.44837 0.04549 0.4412 0.04878 0.43495 C 0.05295 0.41805 0.0592 0.40046 0.06667 0.38564 C 0.06788 0.37962 0.06875 0.37522 0.07135 0.3699 C 0.07257 0.36134 0.07483 0.353 0.07622 0.34444 C 0.07656 0.33911 0.07743 0.33379 0.07743 0.32846 C 0.07743 0.30462 0.07691 0.28101 0.07622 0.25717 C 0.07622 0.25439 0.07535 0.25184 0.075 0.24907 C 0.0724 0.22546 0.06875 0.20462 0.04878 0.19999 C 0.03073 0.20092 -0.00608 0.20671 -0.02378 0.19837 C -0.03299 0.1861 -0.03733 0.17036 -0.04045 0.15393 C -0.03976 0.14259 -0.03941 0.13286 -0.03698 0.12221 C -0.03646 0.09698 -0.0375 0.06365 -0.03333 0.03657 C -0.03281 0.03333 -0.03229 0.02962 -0.0309 0.02684 C -0.02691 0.01874 -0.02014 0.01643 -0.01424 0.0111 C -0.01389 0.01064 -0.00747 0.00485 -0.00712 0.00462 C -0.00503 0.0037 4.44444E-006 0.00346 4.44444E-006 -5.55556E-006 E">
                                      <p:cBhvr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CAFA-A0CA-4BB6-A2E0-225CD1464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into_the_blue__by_magnesina.jpg"/>
          <p:cNvPicPr/>
          <p:nvPr/>
        </p:nvPicPr>
        <p:blipFill>
          <a:blip r:embed="rId1"/>
          <a:stretch/>
        </p:blipFill>
        <p:spPr>
          <a:xfrm>
            <a:off x="3170160" y="665280"/>
            <a:ext cx="640080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 rot="21019800">
            <a:off x="180360" y="167760"/>
            <a:ext cx="2057400" cy="520560"/>
          </a:xfrm>
          <a:prstGeom prst="rect">
            <a:avLst/>
          </a:prstGeom>
          <a:noFill/>
          <a:ln w="38160">
            <a:solidFill>
              <a:srgbClr val="ffc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Calibri"/>
              </a:rPr>
              <a:t>Exerciți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219320" y="1219320"/>
            <a:ext cx="2743200" cy="825480"/>
          </a:xfrm>
          <a:prstGeom prst="rect">
            <a:avLst/>
          </a:prstGeom>
          <a:noFill/>
          <a:ln w="3816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46c0a"/>
                </a:solidFill>
                <a:latin typeface="Calibri"/>
              </a:rPr>
              <a:t>Cum să devenim consumatori critic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04920" y="2590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7375e"/>
              </a:buClr>
              <a:buFont typeface="Segoe Scrip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 </a:t>
            </a: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ENER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80880" y="3276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2.  AP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228600" y="3962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3. DEȘEU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990720" y="4800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4. TRANSPO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0" descr="bca1fe053b1fdb56331c31f9088f1ec8.gif"/>
          <p:cNvPicPr/>
          <p:nvPr/>
        </p:nvPicPr>
        <p:blipFill>
          <a:blip r:embed="rId2"/>
          <a:stretch/>
        </p:blipFill>
        <p:spPr>
          <a:xfrm rot="21185400">
            <a:off x="58680" y="12016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DinoSaurs___Jump_Animation_by_justflyakite.gif"/>
          <p:cNvPicPr/>
          <p:nvPr/>
        </p:nvPicPr>
        <p:blipFill>
          <a:blip r:embed="rId3"/>
          <a:stretch/>
        </p:blipFill>
        <p:spPr>
          <a:xfrm>
            <a:off x="7315200" y="2971800"/>
            <a:ext cx="1219320" cy="33336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2"/>
          <p:cNvSpPr/>
          <p:nvPr/>
        </p:nvSpPr>
        <p:spPr>
          <a:xfrm>
            <a:off x="38088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Segoe Script"/>
              </a:rPr>
              <a:t>5.</a:t>
            </a:r>
            <a:r>
              <a:rPr b="1" lang="ro-RO" sz="1800" spc="-1" strike="noStrike">
                <a:solidFill>
                  <a:srgbClr val="17375e"/>
                </a:solidFill>
                <a:latin typeface="Segoe Script"/>
              </a:rPr>
              <a:t> PROD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Blue_C4D_Wallpaper_by_Dan4ArChAnGeL.jpg"/>
          <p:cNvPicPr/>
          <p:nvPr/>
        </p:nvPicPr>
        <p:blipFill>
          <a:blip r:embed="rId1"/>
          <a:srcRect l="0" t="0" r="0" b="22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earth01.jpg"/>
          <p:cNvPicPr/>
          <p:nvPr/>
        </p:nvPicPr>
        <p:blipFill>
          <a:blip r:embed="rId2"/>
          <a:srcRect l="10818" t="0" r="13417" b="0"/>
          <a:stretch/>
        </p:blipFill>
        <p:spPr>
          <a:xfrm>
            <a:off x="1981080" y="152280"/>
            <a:ext cx="1417680" cy="1486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04920" y="609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Segoe Script"/>
              </a:rPr>
              <a:t>2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TextBox 4"/>
          <p:cNvGrpSpPr/>
          <p:nvPr/>
        </p:nvGrpSpPr>
        <p:grpSpPr>
          <a:xfrm>
            <a:off x="3498840" y="298440"/>
            <a:ext cx="5273640" cy="1335240"/>
            <a:chOff x="3498840" y="298440"/>
            <a:chExt cx="5273640" cy="1335240"/>
          </a:xfrm>
        </p:grpSpPr>
        <p:pic>
          <p:nvPicPr>
            <p:cNvPr id="81" name="TextBox 4" descr=""/>
            <p:cNvPicPr/>
            <p:nvPr/>
          </p:nvPicPr>
          <p:blipFill>
            <a:blip r:embed="rId3"/>
            <a:stretch/>
          </p:blipFill>
          <p:spPr>
            <a:xfrm>
              <a:off x="3498840" y="298440"/>
              <a:ext cx="52736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505320" y="304920"/>
              <a:ext cx="5257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4000" spc="-1" strike="noStrike">
                  <a:solidFill>
                    <a:srgbClr val="ffffff"/>
                  </a:solidFill>
                  <a:latin typeface="Segoe Script"/>
                  <a:ea typeface="Times New Roman"/>
                </a:rPr>
                <a:t>provenind din țările dezvoltat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TextBox 5"/>
          <p:cNvGrpSpPr/>
          <p:nvPr/>
        </p:nvGrpSpPr>
        <p:grpSpPr>
          <a:xfrm>
            <a:off x="1292400" y="2206800"/>
            <a:ext cx="2981160" cy="718920"/>
            <a:chOff x="1292400" y="2206800"/>
            <a:chExt cx="2981160" cy="718920"/>
          </a:xfrm>
        </p:grpSpPr>
        <p:pic>
          <p:nvPicPr>
            <p:cNvPr id="84" name="TextBox 5" descr=""/>
            <p:cNvPicPr/>
            <p:nvPr/>
          </p:nvPicPr>
          <p:blipFill>
            <a:blip r:embed="rId4"/>
            <a:stretch/>
          </p:blipFill>
          <p:spPr>
            <a:xfrm>
              <a:off x="1292400" y="2206800"/>
              <a:ext cx="2981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295280" y="2209680"/>
              <a:ext cx="297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4000" spc="-1" strike="noStrike">
                  <a:solidFill>
                    <a:srgbClr val="ff0000"/>
                  </a:solidFill>
                  <a:latin typeface="Segoe Script"/>
                  <a:ea typeface="Times New Roman"/>
                </a:rPr>
                <a:t>consumă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TextBox 6"/>
          <p:cNvGrpSpPr/>
          <p:nvPr/>
        </p:nvGrpSpPr>
        <p:grpSpPr>
          <a:xfrm>
            <a:off x="530280" y="3498840"/>
            <a:ext cx="8010360" cy="1335240"/>
            <a:chOff x="530280" y="3498840"/>
            <a:chExt cx="8010360" cy="1335240"/>
          </a:xfrm>
        </p:grpSpPr>
        <p:pic>
          <p:nvPicPr>
            <p:cNvPr id="87" name="TextBox 6" descr=""/>
            <p:cNvPicPr/>
            <p:nvPr/>
          </p:nvPicPr>
          <p:blipFill>
            <a:blip r:embed="rId5"/>
            <a:stretch/>
          </p:blipFill>
          <p:spPr>
            <a:xfrm>
              <a:off x="530280" y="3498840"/>
              <a:ext cx="801036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3520" y="3505320"/>
              <a:ext cx="8001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4000" spc="-1" strike="noStrike">
                  <a:solidFill>
                    <a:srgbClr val="c00000"/>
                  </a:solidFill>
                  <a:latin typeface="Segoe Script"/>
                </a:rPr>
                <a:t>80% </a:t>
              </a:r>
              <a:r>
                <a:rPr b="0" lang="ro-RO" sz="4000" spc="-1" strike="noStrike">
                  <a:solidFill>
                    <a:srgbClr val="10253f"/>
                  </a:solidFill>
                  <a:latin typeface="Segoe Script"/>
                </a:rPr>
                <a:t>din resursele naturale ale Pământului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FD34-42AE-4375-8BBC-CC155FE11D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Blue_White_Wallpaper_by_niven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078A-7ADD-426B-9459-C1D38CF34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discovery-dot-com-stick-figure-schoolchild.gif"/>
          <p:cNvPicPr/>
          <p:nvPr/>
        </p:nvPicPr>
        <p:blipFill>
          <a:blip r:embed="rId2"/>
          <a:srcRect l="0" t="0" r="0" b="4632"/>
          <a:stretch/>
        </p:blipFill>
        <p:spPr>
          <a:xfrm>
            <a:off x="3505320" y="152280"/>
            <a:ext cx="1365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girl5-stick-figure.jpg"/>
          <p:cNvPicPr/>
          <p:nvPr/>
        </p:nvPicPr>
        <p:blipFill>
          <a:blip r:embed="rId3"/>
          <a:stretch/>
        </p:blipFill>
        <p:spPr>
          <a:xfrm>
            <a:off x="4800600" y="228600"/>
            <a:ext cx="1676520" cy="2235240"/>
          </a:xfrm>
          <a:prstGeom prst="rect">
            <a:avLst/>
          </a:prstGeom>
          <a:ln w="0">
            <a:noFill/>
          </a:ln>
        </p:spPr>
      </p:pic>
      <p:grpSp>
        <p:nvGrpSpPr>
          <p:cNvPr id="96" name="Equal 7"/>
          <p:cNvGrpSpPr/>
          <p:nvPr/>
        </p:nvGrpSpPr>
        <p:grpSpPr>
          <a:xfrm>
            <a:off x="4449600" y="2682720"/>
            <a:ext cx="1006560" cy="468360"/>
            <a:chOff x="4449600" y="2682720"/>
            <a:chExt cx="1006560" cy="468360"/>
          </a:xfrm>
        </p:grpSpPr>
        <p:pic>
          <p:nvPicPr>
            <p:cNvPr id="97" name="Equal 7" descr=""/>
            <p:cNvPicPr/>
            <p:nvPr/>
          </p:nvPicPr>
          <p:blipFill>
            <a:blip r:embed="rId4"/>
            <a:stretch/>
          </p:blipFill>
          <p:spPr>
            <a:xfrm>
              <a:off x="4449600" y="2682720"/>
              <a:ext cx="10065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05400" y="2716200"/>
              <a:ext cx="8953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8"/>
          <p:cNvSpPr/>
          <p:nvPr/>
        </p:nvSpPr>
        <p:spPr>
          <a:xfrm>
            <a:off x="2895480" y="3429000"/>
            <a:ext cx="40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SUMATORI CRITI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TextBox 9"/>
          <p:cNvGrpSpPr/>
          <p:nvPr/>
        </p:nvGrpSpPr>
        <p:grpSpPr>
          <a:xfrm>
            <a:off x="609480" y="585720"/>
            <a:ext cx="2212920" cy="1328760"/>
            <a:chOff x="609480" y="585720"/>
            <a:chExt cx="2212920" cy="1328760"/>
          </a:xfrm>
        </p:grpSpPr>
        <p:pic>
          <p:nvPicPr>
            <p:cNvPr id="101" name="TextBox 9" descr=""/>
            <p:cNvPicPr/>
            <p:nvPr/>
          </p:nvPicPr>
          <p:blipFill>
            <a:blip r:embed="rId5"/>
            <a:stretch/>
          </p:blipFill>
          <p:spPr>
            <a:xfrm>
              <a:off x="609480" y="585720"/>
              <a:ext cx="22129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0732400">
              <a:off x="685080" y="8366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002060"/>
                  </a:solidFill>
                  <a:latin typeface="Calibri"/>
                </a:rPr>
                <a:t>Consum inteligen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TextBox 10"/>
          <p:cNvGrpSpPr/>
          <p:nvPr/>
        </p:nvGrpSpPr>
        <p:grpSpPr>
          <a:xfrm>
            <a:off x="731880" y="2511360"/>
            <a:ext cx="2108160" cy="712800"/>
            <a:chOff x="731880" y="2511360"/>
            <a:chExt cx="2108160" cy="712800"/>
          </a:xfrm>
        </p:grpSpPr>
        <p:pic>
          <p:nvPicPr>
            <p:cNvPr id="104" name="TextBox 10" descr=""/>
            <p:cNvPicPr/>
            <p:nvPr/>
          </p:nvPicPr>
          <p:blipFill>
            <a:blip r:embed="rId6"/>
            <a:stretch/>
          </p:blipFill>
          <p:spPr>
            <a:xfrm>
              <a:off x="731880" y="2511360"/>
              <a:ext cx="21081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404400">
              <a:off x="757080" y="26380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002060"/>
                  </a:solidFill>
                  <a:latin typeface="Calibri"/>
                </a:rPr>
                <a:t>Recicla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TextBox 11"/>
          <p:cNvGrpSpPr/>
          <p:nvPr/>
        </p:nvGrpSpPr>
        <p:grpSpPr>
          <a:xfrm>
            <a:off x="500040" y="3773520"/>
            <a:ext cx="2176560" cy="1158840"/>
            <a:chOff x="500040" y="3773520"/>
            <a:chExt cx="2176560" cy="1158840"/>
          </a:xfrm>
        </p:grpSpPr>
        <p:pic>
          <p:nvPicPr>
            <p:cNvPr id="107" name="TextBox 11" descr=""/>
            <p:cNvPicPr/>
            <p:nvPr/>
          </p:nvPicPr>
          <p:blipFill>
            <a:blip r:embed="rId7"/>
            <a:stretch/>
          </p:blipFill>
          <p:spPr>
            <a:xfrm>
              <a:off x="500040" y="3773520"/>
              <a:ext cx="2176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1049800">
              <a:off x="556560" y="3938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002060"/>
                  </a:solidFill>
                  <a:latin typeface="Calibri"/>
                </a:rPr>
                <a:t>Dezvoltare durabil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8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8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oil_energy_by_adnrey.jpg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CDC3-46F3-4817-A41C-A35711E3FF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066680" y="457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b050"/>
                </a:solidFill>
                <a:latin typeface="Segoe Script"/>
              </a:rPr>
              <a:t>ENER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28600" y="12952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tingem lumina atunci când nu se află nimeni în încăp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04920" y="23623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b050"/>
                </a:solidFill>
                <a:latin typeface="Calibri"/>
              </a:rPr>
              <a:t>Folosim boilerul și mașina de spălat pe perioade scr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0880" y="34290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Alegem aparate care consumă puțină ener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380880" y="4419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00"/>
                </a:solidFill>
                <a:latin typeface="Calibri"/>
              </a:rPr>
              <a:t>Nu lăsăm aparatele electrice în stand-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The_Water_Boy_by_phil2001.png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D4B3-3B33-4CD0-8EB5-F55669C25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tangle 4" descr=""/>
          <p:cNvPicPr/>
          <p:nvPr/>
        </p:nvPicPr>
        <p:blipFill>
          <a:blip r:embed="rId2"/>
          <a:stretch/>
        </p:blipFill>
        <p:spPr>
          <a:xfrm>
            <a:off x="536400" y="1292400"/>
            <a:ext cx="102420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2438280" y="5335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Calibri"/>
              </a:rPr>
              <a:t>Închidem robinetul atunci când ne periem dinții sau când facem duș și nu avem nevoie de ap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TextBox 6"/>
          <p:cNvGrpSpPr/>
          <p:nvPr/>
        </p:nvGrpSpPr>
        <p:grpSpPr>
          <a:xfrm>
            <a:off x="2444760" y="3103560"/>
            <a:ext cx="6491160" cy="725400"/>
            <a:chOff x="2444760" y="3103560"/>
            <a:chExt cx="6491160" cy="725400"/>
          </a:xfrm>
        </p:grpSpPr>
        <p:pic>
          <p:nvPicPr>
            <p:cNvPr id="123" name="TextBox 6" descr=""/>
            <p:cNvPicPr/>
            <p:nvPr/>
          </p:nvPicPr>
          <p:blipFill>
            <a:blip r:embed="rId3"/>
            <a:stretch/>
          </p:blipFill>
          <p:spPr>
            <a:xfrm>
              <a:off x="2444760" y="3103560"/>
              <a:ext cx="64911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452680" y="3111480"/>
              <a:ext cx="647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6680" indent="-166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vi-VN" sz="2000" spc="-1" strike="noStrike">
                  <a:solidFill>
                    <a:srgbClr val="ffffff"/>
                  </a:solidFill>
                  <a:latin typeface="Arial"/>
                </a:rPr>
                <a:t>Reparăm</a:t>
              </a:r>
              <a:r>
                <a:rPr b="1" lang="ro-RO" sz="2000" spc="-1" strike="noStrike">
                  <a:solidFill>
                    <a:srgbClr val="ffffff"/>
                  </a:solidFill>
                  <a:latin typeface="Calibri"/>
                </a:rPr>
                <a:t> cu promptitudine robinetele sau toalete defec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TextBox 7"/>
          <p:cNvGrpSpPr/>
          <p:nvPr/>
        </p:nvGrpSpPr>
        <p:grpSpPr>
          <a:xfrm>
            <a:off x="2279520" y="4718160"/>
            <a:ext cx="6499440" cy="1017360"/>
            <a:chOff x="2279520" y="4718160"/>
            <a:chExt cx="6499440" cy="1017360"/>
          </a:xfrm>
        </p:grpSpPr>
        <p:pic>
          <p:nvPicPr>
            <p:cNvPr id="126" name="TextBox 7" descr=""/>
            <p:cNvPicPr/>
            <p:nvPr/>
          </p:nvPicPr>
          <p:blipFill>
            <a:blip r:embed="rId4"/>
            <a:stretch/>
          </p:blipFill>
          <p:spPr>
            <a:xfrm>
              <a:off x="2279520" y="4718160"/>
              <a:ext cx="64994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21276000">
              <a:off x="2290680" y="5027400"/>
              <a:ext cx="647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6680" indent="-166680"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o-RO" sz="2000" spc="-1" strike="noStrike">
                  <a:solidFill>
                    <a:srgbClr val="ffffff"/>
                  </a:solidFill>
                  <a:latin typeface="Calibri"/>
                </a:rPr>
                <a:t>Folosim dispozitive de economisire a ape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FAE6-A73B-4178-B0CD-CD4983A869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Fucking_Rubbish__by_tilthefinalsetingsun.jpg"/>
          <p:cNvPicPr/>
          <p:nvPr/>
        </p:nvPicPr>
        <p:blipFill>
          <a:blip r:embed="rId1"/>
          <a:stretch/>
        </p:blipFill>
        <p:spPr>
          <a:xfrm>
            <a:off x="26676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304920" y="3049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6600"/>
                </a:solidFill>
                <a:latin typeface="Calibri"/>
              </a:rPr>
              <a:t>Separăm și reciclăm gunoi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981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9900"/>
                </a:solidFill>
                <a:latin typeface="Calibri"/>
              </a:rPr>
              <a:t>Cumpărăm produse recicla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304920" y="12193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6600"/>
                </a:solidFill>
                <a:latin typeface="Calibri"/>
              </a:rPr>
              <a:t>Evităm ambalajele care nu sunt necesare și produsele dispoza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533520" y="52578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1 tonă hârtie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9" descr="ist2_6054090-camphor-tree.jpg"/>
          <p:cNvPicPr/>
          <p:nvPr/>
        </p:nvPicPr>
        <p:blipFill>
          <a:blip r:embed="rId2"/>
          <a:stretch/>
        </p:blipFill>
        <p:spPr>
          <a:xfrm>
            <a:off x="2438280" y="4952880"/>
            <a:ext cx="876600" cy="110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ist2_6054090-camphor-tree.jpg"/>
          <p:cNvPicPr/>
          <p:nvPr/>
        </p:nvPicPr>
        <p:blipFill>
          <a:blip r:embed="rId3"/>
          <a:stretch/>
        </p:blipFill>
        <p:spPr>
          <a:xfrm>
            <a:off x="3276720" y="4952880"/>
            <a:ext cx="876240" cy="110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ist2_6054090-camphor-tree.jpg"/>
          <p:cNvPicPr/>
          <p:nvPr/>
        </p:nvPicPr>
        <p:blipFill>
          <a:blip r:embed="rId4"/>
          <a:stretch/>
        </p:blipFill>
        <p:spPr>
          <a:xfrm>
            <a:off x="4038480" y="4952880"/>
            <a:ext cx="876600" cy="1101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ist2_6054090-camphor-tree.jpg"/>
          <p:cNvPicPr/>
          <p:nvPr/>
        </p:nvPicPr>
        <p:blipFill>
          <a:blip r:embed="rId5"/>
          <a:stretch/>
        </p:blipFill>
        <p:spPr>
          <a:xfrm>
            <a:off x="4876920" y="4952880"/>
            <a:ext cx="876240" cy="110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ist2_6054090-camphor-tree.jpg"/>
          <p:cNvPicPr/>
          <p:nvPr/>
        </p:nvPicPr>
        <p:blipFill>
          <a:blip r:embed="rId6"/>
          <a:stretch/>
        </p:blipFill>
        <p:spPr>
          <a:xfrm>
            <a:off x="5638680" y="4952880"/>
            <a:ext cx="876600" cy="1101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ist2_6054090-camphor-tree.jpg"/>
          <p:cNvPicPr/>
          <p:nvPr/>
        </p:nvPicPr>
        <p:blipFill>
          <a:blip r:embed="rId7"/>
          <a:stretch/>
        </p:blipFill>
        <p:spPr>
          <a:xfrm>
            <a:off x="6477120" y="4952880"/>
            <a:ext cx="876240" cy="1101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ist2_6054090-camphor-tree.jpg"/>
          <p:cNvPicPr/>
          <p:nvPr/>
        </p:nvPicPr>
        <p:blipFill>
          <a:blip r:embed="rId8"/>
          <a:stretch/>
        </p:blipFill>
        <p:spPr>
          <a:xfrm>
            <a:off x="7238880" y="4952880"/>
            <a:ext cx="876600" cy="1101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ist2_6054090-camphor-tree.jpg"/>
          <p:cNvPicPr/>
          <p:nvPr/>
        </p:nvPicPr>
        <p:blipFill>
          <a:blip r:embed="rId9"/>
          <a:stretch/>
        </p:blipFill>
        <p:spPr>
          <a:xfrm>
            <a:off x="8077320" y="4952880"/>
            <a:ext cx="876240" cy="110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ist2_6054090-camphor-tree.jpg"/>
          <p:cNvPicPr/>
          <p:nvPr/>
        </p:nvPicPr>
        <p:blipFill>
          <a:blip r:embed="rId10"/>
          <a:stretch/>
        </p:blipFill>
        <p:spPr>
          <a:xfrm>
            <a:off x="2057400" y="5756400"/>
            <a:ext cx="876240" cy="110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ist2_6054090-camphor-tree.jpg"/>
          <p:cNvPicPr/>
          <p:nvPr/>
        </p:nvPicPr>
        <p:blipFill>
          <a:blip r:embed="rId11"/>
          <a:stretch/>
        </p:blipFill>
        <p:spPr>
          <a:xfrm>
            <a:off x="2895480" y="5756400"/>
            <a:ext cx="876600" cy="110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ist2_6054090-camphor-tree.jpg"/>
          <p:cNvPicPr/>
          <p:nvPr/>
        </p:nvPicPr>
        <p:blipFill>
          <a:blip r:embed="rId12"/>
          <a:stretch/>
        </p:blipFill>
        <p:spPr>
          <a:xfrm>
            <a:off x="3657600" y="5756400"/>
            <a:ext cx="876240" cy="110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ist2_6054090-camphor-tree.jpg"/>
          <p:cNvPicPr/>
          <p:nvPr/>
        </p:nvPicPr>
        <p:blipFill>
          <a:blip r:embed="rId13"/>
          <a:stretch/>
        </p:blipFill>
        <p:spPr>
          <a:xfrm>
            <a:off x="4495680" y="5756400"/>
            <a:ext cx="876600" cy="110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ist2_6054090-camphor-tree.jpg"/>
          <p:cNvPicPr/>
          <p:nvPr/>
        </p:nvPicPr>
        <p:blipFill>
          <a:blip r:embed="rId14"/>
          <a:stretch/>
        </p:blipFill>
        <p:spPr>
          <a:xfrm>
            <a:off x="5181480" y="5756400"/>
            <a:ext cx="876600" cy="110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ist2_6054090-camphor-tree.jpg"/>
          <p:cNvPicPr/>
          <p:nvPr/>
        </p:nvPicPr>
        <p:blipFill>
          <a:blip r:embed="rId15"/>
          <a:stretch/>
        </p:blipFill>
        <p:spPr>
          <a:xfrm>
            <a:off x="6019920" y="5756400"/>
            <a:ext cx="876240" cy="110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ist2_6054090-camphor-tree.jpg"/>
          <p:cNvPicPr/>
          <p:nvPr/>
        </p:nvPicPr>
        <p:blipFill>
          <a:blip r:embed="rId16"/>
          <a:stretch/>
        </p:blipFill>
        <p:spPr>
          <a:xfrm>
            <a:off x="6781680" y="5756400"/>
            <a:ext cx="876600" cy="1101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ist2_6054090-camphor-tree.jpg"/>
          <p:cNvPicPr/>
          <p:nvPr/>
        </p:nvPicPr>
        <p:blipFill>
          <a:blip r:embed="rId17"/>
          <a:stretch/>
        </p:blipFill>
        <p:spPr>
          <a:xfrm>
            <a:off x="7543800" y="5756400"/>
            <a:ext cx="876240" cy="110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ist2_6054090-camphor-tree.jpg"/>
          <p:cNvPicPr/>
          <p:nvPr/>
        </p:nvPicPr>
        <p:blipFill>
          <a:blip r:embed="rId18"/>
          <a:stretch/>
        </p:blipFill>
        <p:spPr>
          <a:xfrm>
            <a:off x="8267760" y="5756400"/>
            <a:ext cx="876240" cy="11016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6"/>
          <p:cNvSpPr/>
          <p:nvPr/>
        </p:nvSpPr>
        <p:spPr>
          <a:xfrm>
            <a:off x="4343400" y="2286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77933c"/>
                </a:solidFill>
                <a:latin typeface="Calibri"/>
              </a:rPr>
              <a:t>Folosim mai puține bater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Rectangle 27" descr=""/>
          <p:cNvPicPr/>
          <p:nvPr/>
        </p:nvPicPr>
        <p:blipFill>
          <a:blip r:embed="rId19"/>
          <a:stretch/>
        </p:blipFill>
        <p:spPr>
          <a:xfrm>
            <a:off x="8302680" y="-341280"/>
            <a:ext cx="12920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8BA6-E426-406B-8468-7CEBC0642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old-bike.jpg"/>
          <p:cNvPicPr/>
          <p:nvPr/>
        </p:nvPicPr>
        <p:blipFill>
          <a:blip r:embed="rId1"/>
          <a:stretch/>
        </p:blipFill>
        <p:spPr>
          <a:xfrm>
            <a:off x="3114720" y="219240"/>
            <a:ext cx="2914560" cy="37303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533520" y="609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Calibri"/>
              </a:rPr>
              <a:t>Transpor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400800" y="685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00000"/>
                </a:solidFill>
                <a:latin typeface="Calibri"/>
              </a:rPr>
              <a:t>Produse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organic food.jpg"/>
          <p:cNvPicPr/>
          <p:nvPr/>
        </p:nvPicPr>
        <p:blipFill>
          <a:blip r:embed="rId2"/>
          <a:stretch/>
        </p:blipFill>
        <p:spPr>
          <a:xfrm>
            <a:off x="3048120" y="4191120"/>
            <a:ext cx="2971800" cy="1973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0" name="TextBox 7"/>
          <p:cNvSpPr/>
          <p:nvPr/>
        </p:nvSpPr>
        <p:spPr>
          <a:xfrm>
            <a:off x="152280" y="2286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om prefera transportul în com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0" y="4038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Recomandăm folosirea bicicletel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6324480" y="19810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om prefera produsele orga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6324480" y="4038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om prefera produse eco etiche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D929-A850-49DD-A79F-7D0F8A62F2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898989"/>
                </a:solidFill>
                <a:latin typeface="Arial"/>
              </a:rPr>
              <a:t>Întărirea Guvernării de Mediu în București, 10-12 Decembrie, Buște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The_Ladybug_Children_by_phatpuppy.jpg"/>
          <p:cNvPicPr/>
          <p:nvPr/>
        </p:nvPicPr>
        <p:blipFill>
          <a:blip r:embed="rId1"/>
          <a:stretch/>
        </p:blipFill>
        <p:spPr>
          <a:xfrm>
            <a:off x="4191120" y="304920"/>
            <a:ext cx="3708360" cy="55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7" name="TextBox 4"/>
          <p:cNvSpPr/>
          <p:nvPr/>
        </p:nvSpPr>
        <p:spPr>
          <a:xfrm>
            <a:off x="457200" y="7621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Calibri"/>
              </a:rPr>
              <a:t>Într-o singură zi consumăm atât cât consumau oamenii într-un an de zile, acum 200 de a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228600" y="2057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ae2f1a"/>
                </a:solidFill>
                <a:latin typeface="Calibri"/>
              </a:rPr>
              <a:t>2,8  milioane de oameni trăiesc cu mai puţin de 2 euro pe 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28600" y="3276720"/>
            <a:ext cx="33526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ff0000"/>
                </a:solidFill>
                <a:latin typeface="Calibri"/>
              </a:rPr>
              <a:t>Prin folosirea maşinilor se creează de 19 ori mai multă poluare toxic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9:57:48Z</dcterms:created>
  <dc:creator>Voluntar</dc:creator>
  <dc:description/>
  <dc:language>en-US</dc:language>
  <cp:lastModifiedBy>Florina</cp:lastModifiedBy>
  <dcterms:modified xsi:type="dcterms:W3CDTF">2009-12-18T11:16:41Z</dcterms:modified>
  <cp:revision>19</cp:revision>
  <dc:subject/>
  <dc:title>Slide 1</dc:title>
</cp:coreProperties>
</file>